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FFF1-6E08-4ECA-A2D8-D7CBBAC92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F405-571B-4520-94D9-0835F778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531B-FD0F-44DC-8A82-CE2F859FF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AF6A-D07F-4943-8E5F-BE712A0FC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3577-C5C9-4152-A19E-A73E3958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678F-48AE-4068-86EA-4B399EB3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AD6B-61FB-4736-BAC5-3E2C319A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C555-2983-4CD3-988F-78B3116C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13DA-ACBF-424D-ACBF-81BE68F5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77C8-FD60-4427-8A8E-29E0CFFC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B504-6A44-42AD-8526-B64CD706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9DF8-1893-44EF-A1A4-758D3E9A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6986-549C-43B9-8822-DDA76719D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7502" t="0" r="10836" b="8060"/>
          <a:stretch/>
        </p:blipFill>
        <p:spPr>
          <a:xfrm>
            <a:off x="0" y="1752480"/>
            <a:ext cx="9144000" cy="26622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48120" y="4498920"/>
            <a:ext cx="3429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20862" t="0" r="21763" b="0"/>
          <a:stretch/>
        </p:blipFill>
        <p:spPr>
          <a:xfrm>
            <a:off x="1066680" y="0"/>
            <a:ext cx="335304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05520" y="0"/>
            <a:ext cx="365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18858" t="0" r="12813" b="12604"/>
          <a:stretch/>
        </p:blipFill>
        <p:spPr>
          <a:xfrm>
            <a:off x="1219320" y="533520"/>
            <a:ext cx="3138480" cy="5410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24280" y="2162160"/>
            <a:ext cx="441972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9429" t="0" r="24602" b="2706"/>
          <a:stretch/>
        </p:blipFill>
        <p:spPr>
          <a:xfrm>
            <a:off x="1066680" y="990720"/>
            <a:ext cx="4038840" cy="3894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2668680"/>
            <a:ext cx="434340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2362" t="1486" r="10374" b="3168"/>
          <a:stretch/>
        </p:blipFill>
        <p:spPr>
          <a:xfrm>
            <a:off x="4724280" y="0"/>
            <a:ext cx="3772080" cy="6629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1616040"/>
            <a:ext cx="373356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5T13:39:27Z</dcterms:created>
  <dc:creator>nbdoe</dc:creator>
  <dc:description/>
  <dc:language>en-US</dc:language>
  <cp:lastModifiedBy>nbdoe</cp:lastModifiedBy>
  <dcterms:modified xsi:type="dcterms:W3CDTF">2007-04-15T14:08:38Z</dcterms:modified>
  <cp:revision>2</cp:revision>
  <dc:subject/>
  <dc:title>Slide 1</dc:title>
</cp:coreProperties>
</file>